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44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3670-BA54-4B8B-8603-ABE6AA0F6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0D3-3253-47FE-A86C-2793D3D1A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849-1EB2-4A6C-8D44-9EBB2D08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E2D-F28E-4E97-9430-E08A14F3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8DA-DA91-4494-850A-288592A3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CF7-A8DE-40BC-990D-4990D58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241-108D-45F1-9E8C-282EA4D8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840-F8F8-47F2-B27D-94CBC5B5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926-84AA-42AB-97A0-72C5439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081-9B98-408D-A23F-580A41AA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B24C-8BC0-4905-A037-B287D31A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3CF-5941-4C76-8075-2A32E0A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4A6-FC3F-48BE-BEEA-E2DD4717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A5D-579F-42EF-99B8-9032922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0BD-24E0-428A-99C9-4FEA6B566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280" y="182844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46c0a"/>
                </a:solidFill>
                <a:latin typeface="Calibri"/>
              </a:rPr>
              <a:t>Welcome!</a:t>
            </a:r>
            <a:br>
              <a:rPr sz="5900"/>
            </a:br>
            <a:br>
              <a:rPr sz="4000"/>
            </a:b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Introduction </a:t>
            </a:r>
            <a:br>
              <a:rPr sz="4000"/>
            </a:b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to 5</a:t>
            </a:r>
            <a:r>
              <a:rPr b="1" lang="en-US" sz="4000" spc="-1" strike="noStrike" baseline="30000">
                <a:solidFill>
                  <a:srgbClr val="f0720a"/>
                </a:solidFill>
                <a:latin typeface="Calibri"/>
              </a:rPr>
              <a:t>th</a:t>
            </a: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 grade </a:t>
            </a:r>
            <a:br>
              <a:rPr sz="4000"/>
            </a:b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Math Pacing Guides and  Unit Pl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dojo.jpg"/>
          <p:cNvPicPr/>
          <p:nvPr/>
        </p:nvPicPr>
        <p:blipFill>
          <a:blip r:embed="rId1"/>
          <a:stretch/>
        </p:blipFill>
        <p:spPr>
          <a:xfrm>
            <a:off x="0" y="6248520"/>
            <a:ext cx="114624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5410440" cy="7218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181480" y="0"/>
            <a:ext cx="3962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e in the appropriate answers on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ndreds 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fiddleheadfocus.com/sites/default/files/Common%20Core%20logo.JPG"/>
          <p:cNvPicPr/>
          <p:nvPr/>
        </p:nvPicPr>
        <p:blipFill>
          <a:blip r:embed="rId3"/>
          <a:stretch/>
        </p:blipFill>
        <p:spPr>
          <a:xfrm>
            <a:off x="0" y="0"/>
            <a:ext cx="19051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901080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hiddenobjectgames.us/gamepics/a/archipelago/archipelago-sc1.jpg"/>
          <p:cNvPicPr/>
          <p:nvPr/>
        </p:nvPicPr>
        <p:blipFill>
          <a:blip r:embed="rId2"/>
          <a:stretch/>
        </p:blipFill>
        <p:spPr>
          <a:xfrm>
            <a:off x="304920" y="114300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 rot="21096600">
            <a:off x="469800" y="35953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Build a 3 x 2 x 1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ord the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8320" y="1066680"/>
            <a:ext cx="426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ncrease the height by 1 cube by adding a layer of cubes to the first level of the structure. Record the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419720" y="3809880"/>
            <a:ext cx="472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dd another layer!  How did the volume change?  What patterns do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04920" y="5715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at would the volume be if you had 10 layers?  How do you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457200" y="-1522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rlin Sans FB"/>
              </a:rPr>
              <a:t>It’s all about the layer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mathforum.org/dr.math/gifs/layers_cube.gif"/>
          <p:cNvPicPr/>
          <p:nvPr/>
        </p:nvPicPr>
        <p:blipFill>
          <a:blip r:embed="rId1"/>
          <a:stretch/>
        </p:blipFill>
        <p:spPr>
          <a:xfrm>
            <a:off x="378000" y="2206800"/>
            <a:ext cx="3365280" cy="3365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3733920" y="2362320"/>
            <a:ext cx="49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How does this activity link to students’ previous understandings of are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How does it help build a foundation for developing a volume formul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65120" y="2635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Berlin Sans FB"/>
              </a:rPr>
              <a:t>It’s all about the layer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5720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is activity can be found in Math Matters, pg. 291-2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57200" y="7207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3152"/>
                </a:solidFill>
                <a:latin typeface="Berlin Sans FB"/>
              </a:rPr>
              <a:t>It’s all about the layer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54061"/>
                </a:solidFill>
                <a:latin typeface="Comic Sans MS"/>
              </a:rPr>
              <a:t>Unit 3 Planning Guide</a:t>
            </a:r>
            <a:br>
              <a:rPr sz="5400"/>
            </a:br>
            <a:r>
              <a:rPr b="0" lang="en-US" sz="2800" spc="-1" strike="noStrike">
                <a:solidFill>
                  <a:srgbClr val="254061"/>
                </a:solidFill>
                <a:latin typeface="Comic Sans MS"/>
              </a:rPr>
              <a:t>(Mid October-Mid Nove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414520" y="1905120"/>
            <a:ext cx="4214880" cy="381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t3.gstatic.com/images?q=tbn:ANd9GcQKSh-GRz6nU26V9OslGC5DfWgcoPa2i9hPEAhN3avbq-UCgW16qw"/>
          <p:cNvPicPr/>
          <p:nvPr/>
        </p:nvPicPr>
        <p:blipFill>
          <a:blip r:embed="rId2"/>
          <a:stretch/>
        </p:blipFill>
        <p:spPr>
          <a:xfrm rot="647400">
            <a:off x="351000" y="5272200"/>
            <a:ext cx="430524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4.bp.blogspot.com/-opSIr9RyP00/TphUS-s7zrI/AAAAAAAAAQM/V2TwsU_zyjQ/s1600/place+value.jpg"/>
          <p:cNvPicPr/>
          <p:nvPr/>
        </p:nvPicPr>
        <p:blipFill>
          <a:blip r:embed="rId3"/>
          <a:stretch/>
        </p:blipFill>
        <p:spPr>
          <a:xfrm rot="20806200">
            <a:off x="5686560" y="4322520"/>
            <a:ext cx="31734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4" descr=""/>
          <p:cNvPicPr/>
          <p:nvPr/>
        </p:nvPicPr>
        <p:blipFill>
          <a:blip r:embed="rId1"/>
          <a:stretch/>
        </p:blipFill>
        <p:spPr>
          <a:xfrm>
            <a:off x="-171360" y="6480"/>
            <a:ext cx="9150120" cy="333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blogs.villagevoice.com/runninscared/money_suitcase.jpg"/>
          <p:cNvPicPr/>
          <p:nvPr/>
        </p:nvPicPr>
        <p:blipFill>
          <a:blip r:embed="rId2"/>
          <a:stretch/>
        </p:blipFill>
        <p:spPr>
          <a:xfrm>
            <a:off x="-152280" y="1600200"/>
            <a:ext cx="7619760" cy="5183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53735"/>
                </a:solidFill>
                <a:latin typeface="Berlin Sans FB"/>
              </a:rPr>
              <a:t>Unit 4 Planning Guide</a:t>
            </a:r>
            <a:br>
              <a:rPr sz="6000"/>
            </a:br>
            <a:r>
              <a:rPr b="0" lang="en-US" sz="2700" spc="-1" strike="noStrike">
                <a:solidFill>
                  <a:srgbClr val="953735"/>
                </a:solidFill>
                <a:latin typeface="Berlin Sans FB"/>
              </a:rPr>
              <a:t>(Mid November-Dec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414520" y="1905120"/>
            <a:ext cx="4214880" cy="3819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pangea.tec.selu.edu/~vmartinez/ETEC644/fraction_strips%5b1%5d.jpg"/>
          <p:cNvPicPr/>
          <p:nvPr/>
        </p:nvPicPr>
        <p:blipFill>
          <a:blip r:embed="rId2"/>
          <a:stretch/>
        </p:blipFill>
        <p:spPr>
          <a:xfrm rot="858600">
            <a:off x="5795640" y="4164120"/>
            <a:ext cx="3132000" cy="213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enasco.com/prod/images/products/63/AC112247l.jpg"/>
          <p:cNvPicPr/>
          <p:nvPr/>
        </p:nvPicPr>
        <p:blipFill>
          <a:blip r:embed="rId3"/>
          <a:stretch/>
        </p:blipFill>
        <p:spPr>
          <a:xfrm rot="20142600">
            <a:off x="262080" y="3766680"/>
            <a:ext cx="3038400" cy="3038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880" y="64882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429000" y="3049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ola Swamp has ½ a candy bar.  She wants to give equal pieces to her three top scoring Math students.  How much of the whole bar should each student g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thevoiceforschoolchoice.files.wordpress.com/2008/08/viola-swamp.jpg"/>
          <p:cNvPicPr/>
          <p:nvPr/>
        </p:nvPicPr>
        <p:blipFill>
          <a:blip r:embed="rId1"/>
          <a:stretch/>
        </p:blipFill>
        <p:spPr>
          <a:xfrm>
            <a:off x="152280" y="380880"/>
            <a:ext cx="3886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2895480" cy="6858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971800" y="0"/>
            <a:ext cx="3048120" cy="68580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095880" y="0"/>
            <a:ext cx="304812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0" y="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am baking cookies for my class.  The recipe yields 4 dozen cookies and calls for ¾ cup of chocolate chips.  I only need 2 dozen cookies.  How much chocolate will I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0" y="482616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kind of problem is it?  How did you solve it?  How do you know this is the right answer?  What about it was trick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048120" y="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ny  had 2/3 meter of ribbon.  She wanted to give me ¼ of it.  How much ribbon will I g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505320" y="45720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kind of problem is it?  How did you solve it?  How do you know this is the right answer?  What about it was trick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172200" y="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7/12 of a roll of purple bulletin board paper left.  Three teachers are fighting for it.  If they all get the same amount, how much paper could each teacher g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6172200" y="482616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kind of problem is it?  How did you solve it?  How do you know this is the right answer?  What about it was trick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0.google.com/images?q=tbn:ANd9GcTu5F-KyUl1fk2R58lU0kkPjBw_0VFgj5_aoGZ0W8AQSMth6lWG"/>
          <p:cNvPicPr/>
          <p:nvPr/>
        </p:nvPicPr>
        <p:blipFill>
          <a:blip r:embed="rId1"/>
          <a:stretch/>
        </p:blipFill>
        <p:spPr>
          <a:xfrm>
            <a:off x="1600200" y="3352680"/>
            <a:ext cx="1290600" cy="1839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2.bp.blogspot.com/_1MfsTjzTcr8/SBbCtZPwy4I/AAAAAAAAAg0/3qhiXIr8O70/s320/spool.gif"/>
          <p:cNvPicPr/>
          <p:nvPr/>
        </p:nvPicPr>
        <p:blipFill>
          <a:blip r:embed="rId2"/>
          <a:stretch/>
        </p:blipFill>
        <p:spPr>
          <a:xfrm>
            <a:off x="3200400" y="2438280"/>
            <a:ext cx="2571840" cy="134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www.oppictures.com/singleimages/400/73422.JPG"/>
          <p:cNvPicPr/>
          <p:nvPr/>
        </p:nvPicPr>
        <p:blipFill>
          <a:blip r:embed="rId3"/>
          <a:stretch/>
        </p:blipFill>
        <p:spPr>
          <a:xfrm>
            <a:off x="6629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76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53735"/>
                </a:solidFill>
                <a:latin typeface="Berlin Sans FB"/>
              </a:rPr>
              <a:t>Unit 5 Planning Guide</a:t>
            </a:r>
            <a:br>
              <a:rPr sz="6000"/>
            </a:br>
            <a:r>
              <a:rPr b="0" lang="en-US" sz="2700" spc="-1" strike="noStrike">
                <a:solidFill>
                  <a:srgbClr val="953735"/>
                </a:solidFill>
                <a:latin typeface="Berlin Sans FB"/>
              </a:rPr>
              <a:t>(First half of Janua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057400" y="1666800"/>
            <a:ext cx="4214880" cy="3819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240" y="6488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s://encrypted-tbn3.google.com/images?q=tbn:ANd9GcTVbrlVS-q7KMTLkeJV2ZZw06NslM-VS-dVyb-9G4usZHSIBUBw0A"/>
          <p:cNvPicPr/>
          <p:nvPr/>
        </p:nvPicPr>
        <p:blipFill>
          <a:blip r:embed="rId2"/>
          <a:stretch/>
        </p:blipFill>
        <p:spPr>
          <a:xfrm rot="20493000">
            <a:off x="284040" y="42782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www.globalclassroom.org/2004/professional_day/polygons.jpg"/>
          <p:cNvPicPr/>
          <p:nvPr/>
        </p:nvPicPr>
        <p:blipFill>
          <a:blip r:embed="rId3"/>
          <a:stretch/>
        </p:blipFill>
        <p:spPr>
          <a:xfrm rot="743400">
            <a:off x="5338440" y="3860640"/>
            <a:ext cx="35812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PI Resource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haven’t visited DPI’s Wikispace- you shoul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cdpi.wikispaces.ne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CTM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aviga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lig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jor Work of the Gr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s://encrypted-tbn0.google.com/images?q=tbn:ANd9GcSwkMWrLfY3Ybkm4xW7uIS_EXtbRdWD3Up5wMIPmXdkrla6MAU2fA"/>
          <p:cNvPicPr/>
          <p:nvPr/>
        </p:nvPicPr>
        <p:blipFill>
          <a:blip r:embed="rId1"/>
          <a:stretch/>
        </p:blipFill>
        <p:spPr>
          <a:xfrm>
            <a:off x="380880" y="304920"/>
            <a:ext cx="1595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16"/>
          <p:cNvGrpSpPr/>
          <p:nvPr/>
        </p:nvGrpSpPr>
        <p:grpSpPr>
          <a:xfrm>
            <a:off x="6224760" y="1122480"/>
            <a:ext cx="2869920" cy="5533920"/>
            <a:chOff x="6224760" y="1122480"/>
            <a:chExt cx="2869920" cy="5533920"/>
          </a:xfrm>
        </p:grpSpPr>
        <p:pic>
          <p:nvPicPr>
            <p:cNvPr id="143" name="Rectangle 16" descr=""/>
            <p:cNvPicPr/>
            <p:nvPr/>
          </p:nvPicPr>
          <p:blipFill>
            <a:blip r:embed="rId1"/>
            <a:stretch/>
          </p:blipFill>
          <p:spPr>
            <a:xfrm>
              <a:off x="6224760" y="1122480"/>
              <a:ext cx="286992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248520" y="1143000"/>
              <a:ext cx="281916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Rectangle 13"/>
          <p:cNvGrpSpPr/>
          <p:nvPr/>
        </p:nvGrpSpPr>
        <p:grpSpPr>
          <a:xfrm>
            <a:off x="3176640" y="1122480"/>
            <a:ext cx="2870280" cy="5533920"/>
            <a:chOff x="3176640" y="1122480"/>
            <a:chExt cx="2870280" cy="5533920"/>
          </a:xfrm>
        </p:grpSpPr>
        <p:pic>
          <p:nvPicPr>
            <p:cNvPr id="146" name="Rectangle 13" descr=""/>
            <p:cNvPicPr/>
            <p:nvPr/>
          </p:nvPicPr>
          <p:blipFill>
            <a:blip r:embed="rId2"/>
            <a:stretch/>
          </p:blipFill>
          <p:spPr>
            <a:xfrm>
              <a:off x="3176640" y="1122480"/>
              <a:ext cx="287028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00400" y="1143000"/>
              <a:ext cx="281952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Rectangle 9"/>
          <p:cNvGrpSpPr/>
          <p:nvPr/>
        </p:nvGrpSpPr>
        <p:grpSpPr>
          <a:xfrm>
            <a:off x="55440" y="1122480"/>
            <a:ext cx="2863800" cy="5533920"/>
            <a:chOff x="55440" y="1122480"/>
            <a:chExt cx="2863800" cy="5533920"/>
          </a:xfrm>
        </p:grpSpPr>
        <p:pic>
          <p:nvPicPr>
            <p:cNvPr id="149" name="Rectangle 9" descr=""/>
            <p:cNvPicPr/>
            <p:nvPr/>
          </p:nvPicPr>
          <p:blipFill>
            <a:blip r:embed="rId3"/>
            <a:stretch/>
          </p:blipFill>
          <p:spPr>
            <a:xfrm>
              <a:off x="55440" y="1122480"/>
              <a:ext cx="286380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6320" y="1143000"/>
              <a:ext cx="281916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Rectangle 3" descr=""/>
          <p:cNvPicPr/>
          <p:nvPr/>
        </p:nvPicPr>
        <p:blipFill>
          <a:blip r:embed="rId4"/>
          <a:stretch/>
        </p:blipFill>
        <p:spPr>
          <a:xfrm>
            <a:off x="1901880" y="-36360"/>
            <a:ext cx="5529240" cy="180972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5" descr=""/>
          <p:cNvPicPr/>
          <p:nvPr/>
        </p:nvPicPr>
        <p:blipFill>
          <a:blip r:embed="rId5"/>
          <a:stretch/>
        </p:blipFill>
        <p:spPr>
          <a:xfrm>
            <a:off x="420840" y="438120"/>
            <a:ext cx="2084400" cy="1897200"/>
          </a:xfrm>
          <a:prstGeom prst="rect">
            <a:avLst/>
          </a:prstGeom>
          <a:ln w="0">
            <a:noFill/>
          </a:ln>
        </p:spPr>
      </p:pic>
      <p:sp>
        <p:nvSpPr>
          <p:cNvPr id="153" name="Isosceles Triangle 6"/>
          <p:cNvSpPr/>
          <p:nvPr/>
        </p:nvSpPr>
        <p:spPr>
          <a:xfrm>
            <a:off x="7391520" y="1371600"/>
            <a:ext cx="60948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Rectangle 7" descr=""/>
          <p:cNvPicPr/>
          <p:nvPr/>
        </p:nvPicPr>
        <p:blipFill>
          <a:blip r:embed="rId6"/>
          <a:stretch/>
        </p:blipFill>
        <p:spPr>
          <a:xfrm>
            <a:off x="3670200" y="438120"/>
            <a:ext cx="1846440" cy="1897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 rot="20458200">
            <a:off x="178920" y="22176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part of the session was the most helpful t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1"/>
          <p:cNvSpPr/>
          <p:nvPr/>
        </p:nvSpPr>
        <p:spPr>
          <a:xfrm rot="1278000">
            <a:off x="367560" y="5127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you excited abo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4"/>
          <p:cNvSpPr/>
          <p:nvPr/>
        </p:nvSpPr>
        <p:spPr>
          <a:xfrm rot="694800">
            <a:off x="3506040" y="2050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you still unsure abo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 rot="20913600">
            <a:off x="3522960" y="4083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re ways we can help you fur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7"/>
          <p:cNvSpPr/>
          <p:nvPr/>
        </p:nvSpPr>
        <p:spPr>
          <a:xfrm rot="753000">
            <a:off x="6638400" y="2103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is workshop impact your teac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 rot="21037200">
            <a:off x="6475680" y="407844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e Math Practices change the way your Math class opera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learn.caerphilly.org.uk/fleurdelysprimary/file.php/1/News_feed/animated-waving-smiley-face.gif"/>
          <p:cNvPicPr/>
          <p:nvPr/>
        </p:nvPicPr>
        <p:blipFill>
          <a:blip r:embed="rId7"/>
          <a:stretch/>
        </p:blipFill>
        <p:spPr>
          <a:xfrm>
            <a:off x="228600" y="9684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7200" y="30492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5</a:t>
            </a:r>
            <a:r>
              <a:rPr b="0" lang="en-US" sz="4000" spc="-1" strike="noStrike" baseline="30000">
                <a:solidFill>
                  <a:srgbClr val="e46c0a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Grade Pacing Guide</a:t>
            </a:r>
            <a:br>
              <a:rPr sz="4000"/>
            </a:b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Year at a Gl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Outlines the school year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Layout/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lexible docu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enchmark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t assessment and Pre-assess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Not all inclusive—refer to unit pla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g.ehowcdn.com/article-new/ehow/images/a08/8u/mi/course-pacing-guide-used-800x800.jpg"/>
          <p:cNvPicPr/>
          <p:nvPr/>
        </p:nvPicPr>
        <p:blipFill>
          <a:blip r:embed="rId1"/>
          <a:stretch/>
        </p:blipFill>
        <p:spPr>
          <a:xfrm>
            <a:off x="5029200" y="1905120"/>
            <a:ext cx="3867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81240"/>
            <a:ext cx="525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t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6320" y="762120"/>
            <a:ext cx="4495680" cy="2075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the expres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{ 5 [ 12 + 5 ( 500 – 100 )+ 399]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4240" y="2914560"/>
            <a:ext cx="44877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n expression for the step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 5 and then add 26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648320" y="1828800"/>
            <a:ext cx="4165560" cy="23803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out solving for an answ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e how the expre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(10 X 10) relates to 10 x 10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648320" y="490680"/>
            <a:ext cx="4190760" cy="12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51 prime, composite, or neither?  How do you kn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76320" y="4343400"/>
            <a:ext cx="883908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w an array model for 25 X 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Unpacking Docu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22960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joannalukomski.files.wordpress.com/2010/09/factor-flower.jpg"/>
          <p:cNvPicPr/>
          <p:nvPr/>
        </p:nvPicPr>
        <p:blipFill>
          <a:blip r:embed="rId1"/>
          <a:stretch/>
        </p:blipFill>
        <p:spPr>
          <a:xfrm rot="564600">
            <a:off x="5729040" y="2827440"/>
            <a:ext cx="3124080" cy="3800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46c0a"/>
                </a:solidFill>
                <a:latin typeface="Berlin Sans FB"/>
              </a:rPr>
              <a:t>Unit 1 Planning Guide</a:t>
            </a:r>
            <a:br>
              <a:rPr sz="5400"/>
            </a:br>
            <a:r>
              <a:rPr b="0" lang="en-US" sz="3200" spc="-1" strike="noStrike">
                <a:solidFill>
                  <a:srgbClr val="e46c0a"/>
                </a:solidFill>
                <a:latin typeface="Berlin Sans FB"/>
              </a:rPr>
              <a:t>(August/Septemb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hotos.weddingbycolor.com/p/000/015/735/m/144259/p/photo/370743.jpg"/>
          <p:cNvPicPr/>
          <p:nvPr/>
        </p:nvPicPr>
        <p:blipFill>
          <a:blip r:embed="rId2"/>
          <a:stretch/>
        </p:blipFill>
        <p:spPr>
          <a:xfrm>
            <a:off x="2438280" y="1895400"/>
            <a:ext cx="3962520" cy="359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math.phillipmartin.info/math_prime_composite.gif"/>
          <p:cNvPicPr/>
          <p:nvPr/>
        </p:nvPicPr>
        <p:blipFill>
          <a:blip r:embed="rId3"/>
          <a:stretch/>
        </p:blipFill>
        <p:spPr>
          <a:xfrm rot="20898000">
            <a:off x="160200" y="4717800"/>
            <a:ext cx="281952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6400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2.bp.blogspot.com/-174RYFSjGJg/UBxBcXJsYrI/AAAAAAAAAJI/f08j_90A1aQ/s640/103_1142.jpg"/>
          <p:cNvPicPr/>
          <p:nvPr/>
        </p:nvPicPr>
        <p:blipFill>
          <a:blip r:embed="rId1"/>
          <a:stretch/>
        </p:blipFill>
        <p:spPr>
          <a:xfrm>
            <a:off x="2895480" y="2362320"/>
            <a:ext cx="2971800" cy="424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4.bp.blogspot.com/-amdCP_tHXuU/UBxBhWmg82I/AAAAAAAAAJQ/A9OGKIrB2nY/s640/103_1143.jpg"/>
          <p:cNvPicPr/>
          <p:nvPr/>
        </p:nvPicPr>
        <p:blipFill>
          <a:blip r:embed="rId2"/>
          <a:stretch/>
        </p:blipFill>
        <p:spPr>
          <a:xfrm>
            <a:off x="5791320" y="2286000"/>
            <a:ext cx="309384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6" descr=""/>
          <p:cNvPicPr/>
          <p:nvPr/>
        </p:nvPicPr>
        <p:blipFill>
          <a:blip r:embed="rId4"/>
          <a:stretch/>
        </p:blipFill>
        <p:spPr>
          <a:xfrm>
            <a:off x="3902040" y="-139680"/>
            <a:ext cx="3925800" cy="245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3192480" cy="1895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22860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studyjam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20a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3"/>
          <p:cNvGrpSpPr/>
          <p:nvPr/>
        </p:nvGrpSpPr>
        <p:grpSpPr>
          <a:xfrm>
            <a:off x="2133720" y="304920"/>
            <a:ext cx="6095880" cy="1067400"/>
            <a:chOff x="2133720" y="304920"/>
            <a:chExt cx="6095880" cy="1067400"/>
          </a:xfrm>
        </p:grpSpPr>
        <p:sp>
          <p:nvSpPr>
            <p:cNvPr id="76" name="TextBox 4"/>
            <p:cNvSpPr/>
            <p:nvPr/>
          </p:nvSpPr>
          <p:spPr>
            <a:xfrm>
              <a:off x="2965680" y="455400"/>
              <a:ext cx="526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Parenthesis 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Rectangle 8" descr=""/>
            <p:cNvPicPr/>
            <p:nvPr/>
          </p:nvPicPr>
          <p:blipFill>
            <a:blip r:embed="rId1"/>
            <a:stretch/>
          </p:blipFill>
          <p:spPr>
            <a:xfrm>
              <a:off x="2133720" y="304920"/>
              <a:ext cx="5404680" cy="97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Box 5"/>
          <p:cNvSpPr/>
          <p:nvPr/>
        </p:nvSpPr>
        <p:spPr>
          <a:xfrm>
            <a:off x="3675960" y="1484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acke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tangle 9" descr=""/>
          <p:cNvPicPr/>
          <p:nvPr/>
        </p:nvPicPr>
        <p:blipFill>
          <a:blip r:embed="rId2"/>
          <a:stretch/>
        </p:blipFill>
        <p:spPr>
          <a:xfrm>
            <a:off x="2535120" y="1268280"/>
            <a:ext cx="4335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1"/>
          <p:cNvGrpSpPr/>
          <p:nvPr/>
        </p:nvGrpSpPr>
        <p:grpSpPr>
          <a:xfrm>
            <a:off x="3075120" y="2560680"/>
            <a:ext cx="3535200" cy="1141920"/>
            <a:chOff x="3075120" y="2560680"/>
            <a:chExt cx="3535200" cy="1141920"/>
          </a:xfrm>
        </p:grpSpPr>
        <p:sp>
          <p:nvSpPr>
            <p:cNvPr id="81" name="TextBox 6"/>
            <p:cNvSpPr/>
            <p:nvPr/>
          </p:nvSpPr>
          <p:spPr>
            <a:xfrm>
              <a:off x="4049280" y="2785680"/>
              <a:ext cx="234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Braces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Rectangle 10" descr=""/>
            <p:cNvPicPr/>
            <p:nvPr/>
          </p:nvPicPr>
          <p:blipFill>
            <a:blip r:embed="rId3"/>
            <a:stretch/>
          </p:blipFill>
          <p:spPr>
            <a:xfrm>
              <a:off x="3075120" y="2560680"/>
              <a:ext cx="3535200" cy="98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Box 14"/>
          <p:cNvSpPr/>
          <p:nvPr/>
        </p:nvSpPr>
        <p:spPr>
          <a:xfrm>
            <a:off x="0" y="6553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https://encrypted-tbn1.google.com/images?q=tbn:ANd9GcS2owcxLlxrTVEK3EbanhA6g7MsZ_IVHgwNnAtL6oJ5CFJCSq_9Hg"/>
          <p:cNvPicPr/>
          <p:nvPr/>
        </p:nvPicPr>
        <p:blipFill>
          <a:blip r:embed="rId4"/>
          <a:stretch/>
        </p:blipFill>
        <p:spPr>
          <a:xfrm>
            <a:off x="2436840" y="3581280"/>
            <a:ext cx="434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4.bp.blogspot.com/-DIZHlvlOs5w/T-ifqONK4NI/AAAAAAAAAI0/lU6nEXg67v4/s1600/Close+Up.jpg"/>
          <p:cNvPicPr/>
          <p:nvPr/>
        </p:nvPicPr>
        <p:blipFill>
          <a:blip r:embed="rId1"/>
          <a:stretch/>
        </p:blipFill>
        <p:spPr>
          <a:xfrm>
            <a:off x="533520" y="2057400"/>
            <a:ext cx="8153280" cy="275436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1285920" y="-19080"/>
            <a:ext cx="7918560" cy="193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736272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380880" y="235080"/>
            <a:ext cx="1222560" cy="1593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70c0"/>
                </a:solidFill>
                <a:latin typeface="Comic Sans MS"/>
              </a:rPr>
              <a:t>Unit 2 Planning Guide</a:t>
            </a:r>
            <a:br>
              <a:rPr sz="59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First half of Octo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414520" y="1905120"/>
            <a:ext cx="4214880" cy="3819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t2.gstatic.com/images?q=tbn:ANd9GcSHr-OzJjefDC1Nf-lwUl_IgO9SpafyVskC-e_Xf3lzsvYMGrH0"/>
          <p:cNvPicPr/>
          <p:nvPr/>
        </p:nvPicPr>
        <p:blipFill>
          <a:blip r:embed="rId2"/>
          <a:stretch/>
        </p:blipFill>
        <p:spPr>
          <a:xfrm rot="21028200">
            <a:off x="228240" y="5257440"/>
            <a:ext cx="26575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t2.gstatic.com/images?q=tbn:ANd9GcQmbVSbzefhP8XOb8QxAGNdbSlDHxzk9i1axf5yaUglXi8PqP9czM5LOYGNlw"/>
          <p:cNvPicPr/>
          <p:nvPr/>
        </p:nvPicPr>
        <p:blipFill>
          <a:blip r:embed="rId3"/>
          <a:stretch/>
        </p:blipFill>
        <p:spPr>
          <a:xfrm rot="549600">
            <a:off x="6324120" y="4647960"/>
            <a:ext cx="2146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4:43:09Z</dcterms:created>
  <dc:creator>mmckeown</dc:creator>
  <dc:description/>
  <dc:language>en-US</dc:language>
  <cp:lastModifiedBy>afloyd</cp:lastModifiedBy>
  <dcterms:modified xsi:type="dcterms:W3CDTF">2012-08-22T01:36:00Z</dcterms:modified>
  <cp:revision>72</cp:revision>
  <dc:subject/>
  <dc:title>Introduction to 5th grade Math Pacing Guides and  Unit Plans</dc:title>
</cp:coreProperties>
</file>